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9EFF-5711-4685-BAD5-D6E89A572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should be blog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blogging you should be reading blogs - professional reading, critiquing, making judgeme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ret life of b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ful blogs have great content - spelt correctly, no or few grammatical errors, formatted appropriately - t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ds in teenage writing - IM and SMS - are elimated through blo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teacher looking over shoulder or marking or checking - blogs can be as creative as they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 research and learning about specific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ful blogs have great content - spelt correctly, no or few grammatical errors, formatted appropriately - t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ds in teenage writing - IM and SMS - are elimated through blo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teacher looking over shoulder or marking or checking - blogs can be as creative as they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 research and learning about specific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example is Wikip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he resource is often dependent on the strength of the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Arial"/>
              </a:rPr>
              <a:t>. Read/Write W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two-way medium - users are both readers and writ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owing use of social software allows communication and collaboration between two or more peop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C42-2080-4FC7-9C4F-60F89D3E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17A-ACA7-4FF4-BA3B-E0A1E73F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543-B1AE-43D9-8F4E-D90C69C9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1029-00C0-44BC-BC8F-1A53E290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47C-684D-4412-A6AD-4D0558E6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011-5167-43E2-AC62-D5657FF5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998E-4315-4C80-B8E2-0BBD7E16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5CF-9B9E-4817-86CE-2C50D711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4E6-83B4-4F71-8EC8-F8C6CFEE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CA2-E769-4586-AC46-A47BC4EE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C90-656B-4457-B4FF-BB7E76DE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87F-5739-421C-9CEA-AFAF2EDF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C462-FEE9-415F-8CA8-19F3C779D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hediaryofannefrank.blogspot.com/" TargetMode="External"/><Relationship Id="rId3" Type="http://schemas.openxmlformats.org/officeDocument/2006/relationships/hyperlink" Target="http://thediaryofannefrank.blogspot.com/" TargetMode="External"/><Relationship Id="rId4" Type="http://schemas.openxmlformats.org/officeDocument/2006/relationships/hyperlink" Target="http://thediaryofannefrank.blogspot.com/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0080"/>
                </a:solidFill>
                <a:latin typeface="Arial"/>
              </a:rPr>
              <a:t>Engaging our students </a:t>
            </a:r>
            <a:br>
              <a:rPr sz="4400"/>
            </a:br>
            <a:r>
              <a:rPr b="1" lang="en-US" sz="4400" spc="-1" strike="noStrike">
                <a:solidFill>
                  <a:srgbClr val="400080"/>
                </a:solidFill>
                <a:latin typeface="Arial"/>
              </a:rPr>
              <a:t>with Web2.0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s B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sh &amp; archive stud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erac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med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w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hool B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/Class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ts/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ent cont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ndaig Primary -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 Sheehy’s English Class - Central High School,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m 9 Nelson Central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Diary of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nne Fran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yennes’ Science Fair B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m 2 Bucklands Beach Pri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B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ed writing 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fo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s the writer a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ters creativ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ed to a community of people 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ages and em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gs 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a centralised place for regular writing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 the teacher and students to comment and provid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a greater sense of community within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 a voice to students who may not feel comfortable speaking in class, or who are overshadowed by more vocal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324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Wik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website in which content can be created and edited by a community of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kis Build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t updates help to maintain dialogue with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kis allow for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potential for building/strengthening community of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ily create simple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development with peer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auth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k a group pro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Col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ongoing database of sharable less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e collaborativ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s to use Wikis in the Classroo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610840" cy="5408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1641600"/>
            <a:ext cx="190512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delivers content and skills based on government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3885840"/>
            <a:ext cx="23623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and skills delivered by the teacher and reflected back by the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228600"/>
            <a:ext cx="190476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act as mirrors, reflecting content and skills back to the teacher and asses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380880"/>
            <a:ext cx="2514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ool 1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m 9 Nelson Central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m 2 Bucklands Beach Pri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e Davis - Westwood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 Sheehy’s Class - Central High School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use a wiki in the class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kis offer the flexibility to address questions when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is easy to edit/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/updated content is available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s ed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for a purpose and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ive construction of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e of reading and wr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order think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engaging and empowering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pporting Web2.0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2590560" cy="754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914400" y="3048120"/>
            <a:ext cx="3873600" cy="573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990720" y="5486400"/>
            <a:ext cx="3352680" cy="781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914400" y="4038480"/>
            <a:ext cx="3276720" cy="976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29200" y="1905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 H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124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 Book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4343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greg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56386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Generated Media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332000" y="1066680"/>
            <a:ext cx="3620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f74"/>
                </a:solidFill>
                <a:latin typeface="Times New Roman"/>
              </a:rPr>
              <a:t>Digital Age Liter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304920" y="10666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99480" indent="-77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c, Scientific and Technological Lite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99480" indent="-77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 and Information Lite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99480" indent="-77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ltural Literacy and Global 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99480" indent="-7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08360" y="1066680"/>
            <a:ext cx="3621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4"/>
                </a:solidFill>
                <a:latin typeface="Times New Roman"/>
              </a:rPr>
              <a:t>Inventive Thin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144792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ability and Managing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iosity, Creativity and Risk T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Order Thinking and Sound Reas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3581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4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10064"/>
                </a:solidFill>
                <a:latin typeface="Times New Roman"/>
              </a:rPr>
              <a:t>Effective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304920" y="4648320"/>
            <a:ext cx="495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aming, Collaboration and Interpersonal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 and Social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activ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46080" indent="-105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4267080"/>
            <a:ext cx="4190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4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10064"/>
                </a:solidFill>
                <a:latin typeface="Times New Roman"/>
              </a:rPr>
              <a:t>High  Produ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64832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tising, Planning and Managing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ive Use of Real World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Quality, Meaningfu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46080" indent="-105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3657600"/>
            <a:ext cx="6324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14300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1593400">
            <a:off x="838080" y="609120"/>
            <a:ext cx="7925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1st Centu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It’s not too scary… it can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ng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mpo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e f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release 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timulate artistic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park technical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ush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e insp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rovide for student choice and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ater to mulitple intellig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e a relief to some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nd you can be a h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the last generation of teachers who will have a choice whether or not to use or not use the new technologies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eryl Nussbaum-Beach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and skills delivered by the teacher and reflected back by the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64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4400" y="422280"/>
            <a:ext cx="213372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act as amplifiers - mining, processing, mixing and remixing content and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04920"/>
            <a:ext cx="2514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ool 2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505320"/>
            <a:ext cx="2133360" cy="22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 and skills are mined by students who build from the information and raw materials and then share within the class and outsi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1371600"/>
            <a:ext cx="1676160" cy="22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models learning and sharing and monitors student work channeling and crafting learning experien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48320" y="30456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0080"/>
                </a:solidFill>
                <a:latin typeface="Arial"/>
              </a:rPr>
              <a:t>Web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2967120" cy="3308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323676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304920"/>
            <a:ext cx="396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0080"/>
                </a:solidFill>
                <a:latin typeface="Arial"/>
              </a:rPr>
              <a:t>Web1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92920" y="4575240"/>
            <a:ext cx="23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and p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5960" y="4572000"/>
            <a:ext cx="266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writ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se - 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For the first time in history, students are no longer limited by their teachers’ ability and knowledge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Mark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858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page of personally generated diaries, photos, poetry, works of fiction, essays, project updates, news, video files, audio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onologically arrange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ers can post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s can be made to other web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s are like instant messages to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0080"/>
                </a:solidFill>
                <a:latin typeface="Arial"/>
              </a:rPr>
              <a:t>What is a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novative,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ch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persp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ing for an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e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be anony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password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um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rely room for large media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censing agre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col needs to be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T</cp:lastModifiedBy>
  <dcterms:modified xsi:type="dcterms:W3CDTF">2007-06-20T01:20:32Z</dcterms:modified>
  <cp:revision>12</cp:revision>
  <dc:subject/>
  <dc:title>Engaging our students  with Web2.0 tools</dc:title>
</cp:coreProperties>
</file>